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0DE-E13B-4907-9231-7A57072B3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09CA-B1ED-4BCB-9E0B-A58705FD3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8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itle – name and 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l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requirements (does not have to be in the pres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 (does not have to be in the pres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y (does not have to be in the pres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(does not have to be in the pres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load presentation to the wiki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517E-E459-48C9-A29A-F8E55F6562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e scene and define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per Dani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E145-3387-4D51-B318-F55716CBC3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6C48-857A-40DF-9887-FC2EC5C91F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018E-7A46-4844-904A-3151316DE2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4B51-2AF3-4E3B-8EED-6E18DB97B1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her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tailed bud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her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arch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exp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488-35BB-4099-8DE6-BA9D53FC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9C6-4EA0-4B5F-9675-35313D2B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4E6-B2C4-46B7-924A-1CE9B8DD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189-D16B-42DE-BA88-D2EA4420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F206-5BBF-449F-BCEE-65F2FFEF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74B8-59AD-48BF-B7FE-B707FACE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F220-AF0F-4F05-A8E3-A4A3CFD8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680A-0666-466E-A0D3-95E238CC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0E6B-1C8B-4451-B2B5-A2642747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C0BF-A102-4A60-8D72-8883BDE2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22AA-D119-41FB-AD94-458BCEAC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028-DE27-4DB4-BD3C-80F2B60A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0BDE-8FFB-4923-8E1D-BAADCDE7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F32C-1F4D-4FFE-8C0F-CB3E2C6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82AC-0D5D-4B9E-BC3B-13E882C1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B67F-5CBB-4AD2-B714-B3FCC82C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51DA-EC7A-4E7F-8333-F1993C0A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D46-5B1A-4E9F-9467-CCE5D38D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A96-7E7D-4682-921C-99EFDBA9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782-72A0-4EDB-AF48-25230F87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D23-199D-41EA-B23C-AE8EDA91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CA9-57B3-4520-BBE7-70D20E07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6A6-2623-4E15-B1B2-8A9E631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237-F67F-425E-A223-23BF8D4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7528-63AB-4DC9-8E81-A539CDDFCF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82AF-DB7E-4498-943D-F6A3E3C7BE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Garamond"/>
              </a:rPr>
              <a:t>FamLink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iel Bai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ah Hil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lly Mi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Garamond"/>
              </a:rPr>
              <a:t>Scenario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nny Glad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derly Hallway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rdy 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-of-State College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Garamond"/>
              </a:rPr>
              <a:t>Squeeze Sender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Picture 4" descr="not see through"/>
          <p:cNvPicPr/>
          <p:nvPr/>
        </p:nvPicPr>
        <p:blipFill>
          <a:blip r:embed="rId1"/>
          <a:srcRect l="29712" t="24759" r="40577" b="21785"/>
          <a:stretch/>
        </p:blipFill>
        <p:spPr>
          <a:xfrm>
            <a:off x="3657600" y="304812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ee through"/>
          <p:cNvPicPr/>
          <p:nvPr/>
        </p:nvPicPr>
        <p:blipFill>
          <a:blip r:embed="rId2"/>
          <a:srcRect l="29068" t="28742" r="40929" b="21273"/>
          <a:stretch/>
        </p:blipFill>
        <p:spPr>
          <a:xfrm>
            <a:off x="380880" y="1371600"/>
            <a:ext cx="24386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together"/>
          <p:cNvPicPr/>
          <p:nvPr/>
        </p:nvPicPr>
        <p:blipFill>
          <a:blip r:embed="rId3"/>
          <a:srcRect l="36884" t="11248" r="24673" b="6276"/>
          <a:stretch/>
        </p:blipFill>
        <p:spPr>
          <a:xfrm>
            <a:off x="5715000" y="1600200"/>
            <a:ext cx="3124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Garamond"/>
              </a:rPr>
              <a:t>Touch Screen on B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5" descr="final w_lines2"/>
          <p:cNvPicPr/>
          <p:nvPr/>
        </p:nvPicPr>
        <p:blipFill>
          <a:blip r:embed="rId1"/>
          <a:srcRect l="13334" t="15193" r="26668" b="0"/>
          <a:stretch/>
        </p:blipFill>
        <p:spPr>
          <a:xfrm>
            <a:off x="4572000" y="3198960"/>
            <a:ext cx="4419720" cy="3524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final w_lines"/>
          <p:cNvPicPr/>
          <p:nvPr/>
        </p:nvPicPr>
        <p:blipFill>
          <a:blip r:embed="rId2"/>
          <a:srcRect l="8887" t="0" r="20000" b="23154"/>
          <a:stretch/>
        </p:blipFill>
        <p:spPr>
          <a:xfrm>
            <a:off x="228600" y="990720"/>
            <a:ext cx="4876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Garamond"/>
              </a:rPr>
              <a:t>The Love Bu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6" descr="Sarahs_project(4)"/>
          <p:cNvPicPr/>
          <p:nvPr/>
        </p:nvPicPr>
        <p:blipFill>
          <a:blip r:embed="rId1"/>
          <a:stretch/>
        </p:blipFill>
        <p:spPr>
          <a:xfrm>
            <a:off x="1295280" y="905040"/>
            <a:ext cx="67057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Garamond"/>
              </a:rPr>
              <a:t>Next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view ED Staff and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ct Resear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iz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ther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Prot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Prot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2b2b2"/>
                </a:solidFill>
                <a:latin typeface="Garamond"/>
              </a:rPr>
              <a:t>Questions?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0:00:27Z</dcterms:created>
  <dc:creator>gradstudent</dc:creator>
  <dc:description/>
  <dc:language>en-US</dc:language>
  <cp:lastModifiedBy>Emory Healthcare</cp:lastModifiedBy>
  <dcterms:modified xsi:type="dcterms:W3CDTF">2008-10-29T12:15:01Z</dcterms:modified>
  <cp:revision>9</cp:revision>
  <dc:subject/>
  <dc:title>ED of the Future: Connecting Patients and Families</dc:title>
</cp:coreProperties>
</file>